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162-08EE-497E-AA6E-682669DD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3D5-9022-4EB5-8737-DA5E0034F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DDD-ECD8-457D-B855-F817FF5C2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9DE-7F7D-4E26-A584-FEDC8A4C8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87AD-D0C9-4AD1-92BE-990574747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FD8-6054-4F0F-916B-3E5246223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136-DFB3-4D95-9AF1-20D08B355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5C0-BEA8-4EF1-816F-19B19445E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ED3-EC49-457E-B583-7D99A51CC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CC7-4D61-472F-82B5-6A3871B76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F59-59FD-4080-90C5-48860ED98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80D3-C492-46D8-95BA-1895D4525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67B-7B76-459E-9D2F-4656CD257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361-D2AE-4F3E-AF79-9EEAFEA40C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9B3-7C29-435D-ADF6-28364F854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3F0-3FA0-426B-A516-5A4D083A5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009-E67F-4B81-8058-08221E89A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031-18AD-4056-B337-1236CE963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1804-52C5-4D11-A96E-4707B70CE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2BAA-B40A-4543-AB6D-640069194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D87-F193-4C70-B727-EA770260B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507-ED60-453C-AB0B-1F5857125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298-F12B-48F9-A9A3-0E421217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74E-C278-49AF-BEC5-01FB611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B4F-2818-4D37-AAC2-BC5B12E3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BA5-5B75-45A5-9220-F3A94B9B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2D29-0BC9-459B-93E1-3E3F6BFC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C3E-BB17-47BF-BFCF-4627F07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E601-A622-4944-B9A8-91D06AF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052-81F9-490E-96FE-42674F6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76E3-4A54-4F2C-B369-CF04E725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6CE-2D5B-441B-8D95-BA471A7B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07D2-96BE-4E51-82B9-B3D1B53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046-D98E-40A4-96EE-673D7DD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6478-0E0C-4938-BB67-DA630C9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A5B4-B04F-4EAC-A644-B32513BB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433-EAFD-43F5-85E6-FB95189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730-F89F-4E17-A5BE-306F20C0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91CF-81D2-4A66-9175-8D7018B5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8D-E26A-4834-A862-FF28508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241-177C-4332-9DDA-AA34BF9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554-E8C1-449E-BADC-579BE7C0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E0D-550E-4BE1-8E71-1F39809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242-578C-4702-A159-350A90A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602-B612-4ACE-9377-D12C193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0F6-2A1A-4E02-BAEA-029DD91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B16-4E9E-44A4-9A45-E8563E6797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9D67-43DE-458C-B7F2-4E7ECBA223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 Russian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russian_empire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ussr"/>
          <p:cNvPicPr/>
          <p:nvPr/>
        </p:nvPicPr>
        <p:blipFill>
          <a:blip r:embed="rId2"/>
          <a:stretch/>
        </p:blipFill>
        <p:spPr>
          <a:xfrm>
            <a:off x="5105520" y="2708280"/>
            <a:ext cx="4038480" cy="30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March Revol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s: Food riots/stri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ma declared itself a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Provisional Governmen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n March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sar  ordered soldiers to intervene; instead they joined the rebellion…the Tsar thus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abdic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 March 1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Menshevik Alexander Kerensk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headed the Provisional Government, along w/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Prince Lv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ery Popular R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rensky favoured gradual socialist reform/ saw the war effort as #1 pri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kerensky"/>
          <p:cNvPicPr/>
          <p:nvPr/>
        </p:nvPicPr>
        <p:blipFill>
          <a:blip r:embed="rId1"/>
          <a:stretch/>
        </p:blipFill>
        <p:spPr>
          <a:xfrm>
            <a:off x="0" y="1143000"/>
            <a:ext cx="2809800" cy="487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thumb?id=10160"/>
          <p:cNvPicPr/>
          <p:nvPr/>
        </p:nvPicPr>
        <p:blipFill>
          <a:blip r:embed="rId2"/>
          <a:stretch/>
        </p:blipFill>
        <p:spPr>
          <a:xfrm>
            <a:off x="2590920" y="4191120"/>
            <a:ext cx="199044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ornilov Affai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Kornilov attempted to overthrow Provisional Government with military take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event this takeover, Kerensky freed many Bolshevik leaders from prison and supplied arms to many revolut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kornilov"/>
          <p:cNvPicPr/>
          <p:nvPr/>
        </p:nvPicPr>
        <p:blipFill>
          <a:blip r:embed="rId1"/>
          <a:stretch/>
        </p:blipFill>
        <p:spPr>
          <a:xfrm>
            <a:off x="4640400" y="1700280"/>
            <a:ext cx="3678120" cy="424656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Petrograd Sovi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38480" y="761760"/>
            <a:ext cx="5105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leftists in St. Petersburg formed the Petrograd Soviet, which they claimed to be the legit. gov’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er. was aware of the Russ. situation and began to concentrate on the W. Fro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er. even played a role in returning Lenin to Russia, so he could foment re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Having been granted “safe passage”, Lenin returned in April 19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339p11-2"/>
          <p:cNvPicPr/>
          <p:nvPr/>
        </p:nvPicPr>
        <p:blipFill>
          <a:blip r:embed="rId1"/>
          <a:stretch/>
        </p:blipFill>
        <p:spPr>
          <a:xfrm>
            <a:off x="0" y="2809800"/>
            <a:ext cx="5038560" cy="4048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etro4b"/>
          <p:cNvPicPr/>
          <p:nvPr/>
        </p:nvPicPr>
        <p:blipFill>
          <a:blip r:embed="rId2"/>
          <a:stretch/>
        </p:blipFill>
        <p:spPr>
          <a:xfrm>
            <a:off x="228600" y="762120"/>
            <a:ext cx="4648320" cy="26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oviet 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10080" y="838080"/>
            <a:ext cx="3733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adical and revolutionary than the Provisional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nfluenced by Marxist soci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ulated western soci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F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“Menshevik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“Bolshevik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revolution"/>
          <p:cNvPicPr/>
          <p:nvPr/>
        </p:nvPicPr>
        <p:blipFill>
          <a:blip r:embed="rId1"/>
          <a:stretch/>
        </p:blipFill>
        <p:spPr>
          <a:xfrm>
            <a:off x="0" y="1600200"/>
            <a:ext cx="53341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Founder of Bolshevism: Vladimir Len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38480" y="6854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Early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Exiled to Siberia in 18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d to Class Struggle and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d to London in 1902 and befriended Leon Trot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at is to be Do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vanguard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is required to lead the rev. (thus rev. from above) 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his split the SDWP i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lenin"/>
          <p:cNvPicPr/>
          <p:nvPr/>
        </p:nvPicPr>
        <p:blipFill>
          <a:blip r:embed="rId1"/>
          <a:stretch/>
        </p:blipFill>
        <p:spPr>
          <a:xfrm>
            <a:off x="0" y="838080"/>
            <a:ext cx="381636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enin Steps into This Vacuu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33920" y="609120"/>
            <a:ext cx="5410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nesty granted to all political prisoners in March of 19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nin’s arrival in Petrogr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tremendously charismatic pers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ace, Land, Brea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Power to the Soviet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He preached that the war was a capitalist/imperialist war that offered no rewards for the peasants/workers; he also felt the war was over w/ the czar’s abd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lshevik party membership exploded; their power was consoli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leninposter"/>
          <p:cNvPicPr/>
          <p:nvPr/>
        </p:nvPicPr>
        <p:blipFill>
          <a:blip r:embed="rId1"/>
          <a:stretch/>
        </p:blipFill>
        <p:spPr>
          <a:xfrm>
            <a:off x="0" y="1295280"/>
            <a:ext cx="3487680" cy="495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533520" y="304560"/>
            <a:ext cx="56390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Lenin formed the </a:t>
            </a:r>
            <a:r>
              <a:rPr b="1" i="1" lang="en-CA" sz="2800" spc="-1" strike="noStrike">
                <a:solidFill>
                  <a:srgbClr val="99ff66"/>
                </a:solidFill>
                <a:latin typeface="Tahoma"/>
              </a:rPr>
              <a:t>Military-Revolutionary Council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 and in May 1917 he urged the Pet. Soviet to pass </a:t>
            </a:r>
            <a:r>
              <a:rPr b="1" lang="en-CA" sz="2800" spc="-1" strike="noStrike">
                <a:solidFill>
                  <a:srgbClr val="99ff66"/>
                </a:solidFill>
                <a:latin typeface="Tahoma"/>
              </a:rPr>
              <a:t>Army Order #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his gave control of the army to the common soldiers; discipline thus collapsed, and Kerensky was und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29_October17"/>
          <p:cNvPicPr/>
          <p:nvPr/>
        </p:nvPicPr>
        <p:blipFill>
          <a:blip r:embed="rId1"/>
          <a:stretch/>
        </p:blipFill>
        <p:spPr>
          <a:xfrm>
            <a:off x="5251320" y="838080"/>
            <a:ext cx="389268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November Revol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765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v. 6, 1917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this was the ideological aspect of the rev., w/ the coup itself planned by </a:t>
            </a:r>
            <a:r>
              <a:rPr b="1" lang="en-CA" sz="2000" spc="-1" strike="noStrike">
                <a:solidFill>
                  <a:srgbClr val="99ff66"/>
                </a:solidFill>
                <a:latin typeface="Tahoma"/>
              </a:rPr>
              <a:t>Leon Trotsky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, who had gained the confidence of the army (= the “Red Miracle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Lenin went on to consolidate his power in Jan. 1918 when he disbanded the </a:t>
            </a:r>
            <a:r>
              <a:rPr b="1" i="1" lang="en-CA" sz="2000" spc="-1" strike="noStrike">
                <a:solidFill>
                  <a:srgbClr val="ffffff"/>
                </a:solidFill>
                <a:latin typeface="Tahoma"/>
              </a:rPr>
              <a:t>Constituent Assembly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 (had replaced the Duma) – the Bolsheviks had not gained a majority there in late Nov. elections  - Russ. dem. thus terminated </a:t>
            </a:r>
            <a:r>
              <a:rPr b="1" lang="en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1" lang="en-CA" sz="2000" spc="-1" strike="noStrike">
                <a:solidFill>
                  <a:srgbClr val="99ff66"/>
                </a:solidFill>
                <a:latin typeface="Tahoma"/>
              </a:rPr>
              <a:t>Co</a:t>
            </a:r>
            <a:r>
              <a:rPr b="1" lang="en-US" sz="2000" spc="-1" strike="noStrike">
                <a:solidFill>
                  <a:srgbClr val="99ff66"/>
                </a:solidFill>
                <a:latin typeface="Tahoma"/>
              </a:rPr>
              <a:t>uncil of People’s Commissa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was cre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l private property was abolished and divided among the peasa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rgest industrial enterprises nationa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november"/>
          <p:cNvPicPr/>
          <p:nvPr/>
        </p:nvPicPr>
        <p:blipFill>
          <a:blip r:embed="rId1"/>
          <a:stretch/>
        </p:blipFill>
        <p:spPr>
          <a:xfrm>
            <a:off x="304920" y="762120"/>
            <a:ext cx="4343400" cy="290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Trotsky_militant"/>
          <p:cNvPicPr/>
          <p:nvPr/>
        </p:nvPicPr>
        <p:blipFill>
          <a:blip r:embed="rId2"/>
          <a:stretch/>
        </p:blipFill>
        <p:spPr>
          <a:xfrm>
            <a:off x="228600" y="382284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vember Revolution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litical Police organized: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CH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olutionary army created with Trotsky in charge = “Red Arm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lshevik Party renamed Communist Party in March of 19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red Army"/>
          <p:cNvPicPr/>
          <p:nvPr/>
        </p:nvPicPr>
        <p:blipFill>
          <a:blip r:embed="rId1"/>
          <a:stretch/>
        </p:blipFill>
        <p:spPr>
          <a:xfrm>
            <a:off x="0" y="685800"/>
            <a:ext cx="4114800" cy="3029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lix_Dzerzhinsky_1919"/>
          <p:cNvPicPr/>
          <p:nvPr/>
        </p:nvPicPr>
        <p:blipFill>
          <a:blip r:embed="rId2"/>
          <a:stretch/>
        </p:blipFill>
        <p:spPr>
          <a:xfrm>
            <a:off x="2438280" y="3124080"/>
            <a:ext cx="272592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ovember Revolution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Lenin’s 1st task was to get Russia out of the war so he could concentrate on internal reform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Treaty of Brest-Litovs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negotiated with the Germans, 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iving them much Russian territory, population, and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vil War followed, 1917-1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s” versus “Whit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breakdown of Russian economy and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brest-litovsk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-Revolutionary Russ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ly true autocracy left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type of representative political instit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holas II became tsar in 188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lieved he was the absolute ruler anointed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sso-Japanese War (1904) – defeat led to pol.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nicholas II"/>
          <p:cNvPicPr/>
          <p:nvPr/>
        </p:nvPicPr>
        <p:blipFill>
          <a:blip r:embed="rId1"/>
          <a:stretch/>
        </p:blipFill>
        <p:spPr>
          <a:xfrm>
            <a:off x="341280" y="1371600"/>
            <a:ext cx="4167360" cy="510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preting the Russian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fficial Marxist interpre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ortance of a permanent international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of Russian History and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sed Revolution on an unwilling vic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cial Revoluti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interp"/>
          <p:cNvPicPr/>
          <p:nvPr/>
        </p:nvPicPr>
        <p:blipFill>
          <a:blip r:embed="rId1"/>
          <a:stretch/>
        </p:blipFill>
        <p:spPr>
          <a:xfrm>
            <a:off x="447840" y="914400"/>
            <a:ext cx="38066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ussr"/>
          <p:cNvPicPr/>
          <p:nvPr/>
        </p:nvPicPr>
        <p:blipFill>
          <a:blip r:embed="rId1"/>
          <a:stretch/>
        </p:blipFill>
        <p:spPr>
          <a:xfrm>
            <a:off x="-304920" y="-304920"/>
            <a:ext cx="9677520" cy="739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volution of 190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id growth of  (discontented) working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t majority of workers concentrated in St. Petersburg and Mosc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ttle help from the countryside: impoverished peasants – Populist Movements of the 1870s and later had done little to improve their 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individual land 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ral Fam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petersburg"/>
          <p:cNvPicPr/>
          <p:nvPr/>
        </p:nvPicPr>
        <p:blipFill>
          <a:blip r:embed="rId1"/>
          <a:stretch/>
        </p:blipFill>
        <p:spPr>
          <a:xfrm>
            <a:off x="0" y="685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ivil war"/>
          <p:cNvPicPr/>
          <p:nvPr/>
        </p:nvPicPr>
        <p:blipFill>
          <a:blip r:embed="rId2"/>
          <a:stretch/>
        </p:blipFill>
        <p:spPr>
          <a:xfrm>
            <a:off x="228600" y="3525840"/>
            <a:ext cx="457200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5257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servatism Continues: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905-1917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67280" y="0"/>
            <a:ext cx="327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sar paid no attention to the Duma; it was harassed and political parties suppressed – only token land reform was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holas was personally a very weak man; he became increasingly remote as a r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merous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sovie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thus began to app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3091734"/>
          <p:cNvPicPr/>
          <p:nvPr/>
        </p:nvPicPr>
        <p:blipFill>
          <a:blip r:embed="rId1"/>
          <a:stretch/>
        </p:blipFill>
        <p:spPr>
          <a:xfrm>
            <a:off x="0" y="2133720"/>
            <a:ext cx="565776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exandra: The Power Behind the Thr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097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en more blindly committed to autocracy than her husb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e was under the influence of Rasput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s of Rasputin’s power -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andals surrounding Rasputin served to discredit the mon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rasputin"/>
          <p:cNvPicPr/>
          <p:nvPr/>
        </p:nvPicPr>
        <p:blipFill>
          <a:blip r:embed="rId1"/>
          <a:stretch/>
        </p:blipFill>
        <p:spPr>
          <a:xfrm>
            <a:off x="2438280" y="2481120"/>
            <a:ext cx="2857680" cy="437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lexandra"/>
          <p:cNvPicPr/>
          <p:nvPr/>
        </p:nvPicPr>
        <p:blipFill>
          <a:blip r:embed="rId2"/>
          <a:stretch/>
        </p:blipFill>
        <p:spPr>
          <a:xfrm>
            <a:off x="0" y="838080"/>
            <a:ext cx="284148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rld War I: “The Last Straw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86400" y="76176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r revealed the ineptitude and arrogance of the country’s aristocratic el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rrupt military leadership had contempt for ordinary Russia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verage peasants had very little invested in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russian army"/>
          <p:cNvPicPr/>
          <p:nvPr/>
        </p:nvPicPr>
        <p:blipFill>
          <a:blip r:embed="rId1"/>
          <a:stretch/>
        </p:blipFill>
        <p:spPr>
          <a:xfrm>
            <a:off x="0" y="1905120"/>
            <a:ext cx="54864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ld War I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ilitary disaster:  Mass desertions and 2 million casualties by 19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ult: Chaos and Disintegration of the Russian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surrender"/>
          <p:cNvPicPr/>
          <p:nvPr/>
        </p:nvPicPr>
        <p:blipFill>
          <a:blip r:embed="rId1"/>
          <a:stretch/>
        </p:blipFill>
        <p:spPr>
          <a:xfrm>
            <a:off x="0" y="761400"/>
            <a:ext cx="4038480" cy="29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067692"/>
          <p:cNvPicPr/>
          <p:nvPr/>
        </p:nvPicPr>
        <p:blipFill>
          <a:blip r:embed="rId2"/>
          <a:stretch/>
        </p:blipFill>
        <p:spPr>
          <a:xfrm>
            <a:off x="304920" y="3840120"/>
            <a:ext cx="426708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llapse of the Imperial Gover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holas left for the Front—September, 19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ra and Rasputin throw the government into cha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ra and other high government officials accused of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cartoon"/>
          <p:cNvPicPr/>
          <p:nvPr/>
        </p:nvPicPr>
        <p:blipFill>
          <a:blip r:embed="rId1"/>
          <a:stretch/>
        </p:blipFill>
        <p:spPr>
          <a:xfrm>
            <a:off x="304920" y="1600200"/>
            <a:ext cx="366048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Two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evolutions of 191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4640" y="159984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rch Revolution (March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vember Revolution (November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Lenin_trots"/>
          <p:cNvPicPr/>
          <p:nvPr/>
        </p:nvPicPr>
        <p:blipFill>
          <a:blip r:embed="rId1"/>
          <a:stretch/>
        </p:blipFill>
        <p:spPr>
          <a:xfrm>
            <a:off x="228600" y="1905120"/>
            <a:ext cx="5181480" cy="40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3:09:27Z</dcterms:created>
  <dc:creator>Kuenzi</dc:creator>
  <dc:description/>
  <dc:language>en-US</dc:language>
  <cp:lastModifiedBy>Kuenzi</cp:lastModifiedBy>
  <dcterms:modified xsi:type="dcterms:W3CDTF">2011-04-04T00:41:21Z</dcterms:modified>
  <cp:revision>8</cp:revision>
  <dc:subject/>
  <dc:title>The Russian Revolution</dc:title>
</cp:coreProperties>
</file>